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23C-DECA-4233-B471-A7523E33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B711-8A34-408B-8009-EA76E385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0A7-EF3E-4A6A-95D2-FFC7B501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57D-BB5F-4EFB-B72D-2AF99979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F43B-F968-4FEE-974F-9E89EA9D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53FA-BB4C-4C14-9D1D-92D5C21E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CFEF-3951-4FE9-819C-BA7F61EE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CFB2-7FC7-41FB-A15A-C9DC5B79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E16C-E6F2-4CCD-908F-78D7CB8D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8490-3532-4189-9582-EACBA4CB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0ED5-05B8-4380-9B46-BB5A5F83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E24-19CD-495A-9388-5ECDC96F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A5CC-32D2-41A4-A91B-FE84158C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DCFC-C688-402D-924A-A1BDD3EC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EC2B-181F-4B0C-AC6B-39E131DC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C0F5-874E-4F3D-9E13-C92177D7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8008-0D83-4D0A-82A9-9E72093E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22D-E15A-4829-86D6-ADD3C92E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8DF-2B35-4584-A6CB-B6B4E723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9D2-8A9B-43C2-9257-B1F063CC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73E8-8EA2-41B8-AE76-341893F5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8B7-42CD-41CF-BAC4-E4151844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D58-5AC8-47D3-B20E-24D20175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474-7388-489A-B90A-5F48465D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D484-53A1-4547-894C-7864A8A8567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7685-532D-4EC8-B4AB-2ECB291ACCD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nnys and Toriu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spanio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anish countrie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enezuel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ex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pan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ominican republic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uba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i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72428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s 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j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egr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lon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fé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643280" y="2579760"/>
            <a:ext cx="381492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umero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n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o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r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euatr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inc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eis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iente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cho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uev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084640" y="1981080"/>
            <a:ext cx="293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famil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ma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pa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erman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ermana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La abuela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La abuel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132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36:26Z</dcterms:created>
  <dc:creator>WSFCS Workstation</dc:creator>
  <dc:description/>
  <dc:language>en-US</dc:language>
  <cp:lastModifiedBy>WSFCS Workstation</cp:lastModifiedBy>
  <dcterms:modified xsi:type="dcterms:W3CDTF">2010-04-28T18:58:17Z</dcterms:modified>
  <cp:revision>3</cp:revision>
  <dc:subject/>
  <dc:title>Lennys and Torius</dc:title>
</cp:coreProperties>
</file>